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1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2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6:01:59.069000000" idx="2">
    <p:pos x="4090" y="236"/>
    <p:text/>
  </p:cm>
</p:cmLst>
</file>

<file path=ppt/comments/comment25.xml><?xml version="1.0" encoding="utf-8"?>
<p:cmLst xmlns:p="http://schemas.openxmlformats.org/presentationml/2006/main">
  <p:cm authorId="0" dt="2016-08-19T16:02:12.767000000" idx="3">
    <p:pos x="2447" y="149"/>
    <p:text/>
  </p:cm>
</p:cmLst>
</file>

<file path=ppt/comments/comment8.xml><?xml version="1.0" encoding="utf-8"?>
<p:cmLst xmlns:p="http://schemas.openxmlformats.org/presentationml/2006/main">
  <p:cm authorId="0" dt="2016-08-19T16:01:48.694000000" idx="1">
    <p:pos x="5375" y="70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59C-9EF0-458D-89EB-BE8860A838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1624-C292-41AC-B0EC-F41CF50265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0FB-EDA6-4059-B817-A020329224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FB1-CDE4-48A8-8D80-5F0E2B5D9C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BAF-E088-4F2A-8E11-4958F4F0B9F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6742-87BC-4A02-87C4-D6CA875F36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D22-324F-45DD-AFBE-DBC0465F06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2AA-010E-4354-9B08-C41FD50FA5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059280" y="3284640"/>
            <a:ext cx="540036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3057480" y="261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识万以内的数和一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630864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xkb1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4360" y="4292640"/>
            <a:ext cx="7775280" cy="538200"/>
          </a:xfrm>
          <a:prstGeom prst="rect">
            <a:avLst/>
          </a:prstGeom>
          <a:solidFill>
            <a:srgbClr val="6dff44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，千位上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千，个位上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684360" y="5373720"/>
            <a:ext cx="7775280" cy="538200"/>
          </a:xfrm>
          <a:prstGeom prst="rect">
            <a:avLst/>
          </a:prstGeom>
          <a:solidFill>
            <a:srgbClr val="7030a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千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千，十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1844640"/>
          <a:ext cx="4547880" cy="2266920"/>
        </p:xfrm>
        <a:graphic>
          <a:graphicData uri="http://schemas.openxmlformats.org/drawingml/2006/table">
            <a:tbl>
              <a:tblPr/>
              <a:tblGrid>
                <a:gridCol w="909360"/>
                <a:gridCol w="909720"/>
                <a:gridCol w="909720"/>
                <a:gridCol w="909720"/>
                <a:gridCol w="909360"/>
              </a:tblGrid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"/>
          <p:cNvSpPr/>
          <p:nvPr/>
        </p:nvSpPr>
        <p:spPr>
          <a:xfrm>
            <a:off x="539640" y="1628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数写出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" descr="C:\Users\Administrator\AppData\Roaming\Tencent\Users\781547643\QQ\WinTemp\RichOle\@}TV$Q(LY0E}$4})QYAT8(Q.png"/>
          <p:cNvPicPr/>
          <p:nvPr/>
        </p:nvPicPr>
        <p:blipFill>
          <a:blip r:embed="rId1"/>
          <a:stretch/>
        </p:blipFill>
        <p:spPr>
          <a:xfrm>
            <a:off x="1116000" y="2133720"/>
            <a:ext cx="2036880" cy="16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Administrator\AppData\Roaming\Tencent\Users\781547643\QQ\WinTemp\RichOle\4]ZIB4][Y[E@(NGRO_9I@ZA.png"/>
          <p:cNvPicPr/>
          <p:nvPr/>
        </p:nvPicPr>
        <p:blipFill>
          <a:blip r:embed="rId2"/>
          <a:stretch/>
        </p:blipFill>
        <p:spPr>
          <a:xfrm>
            <a:off x="5148360" y="2133720"/>
            <a:ext cx="2787480" cy="1601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Administrator\AppData\Roaming\Tencent\Users\781547643\QQ\WinTemp\RichOle\5J6D)WY{7560VC)M4A%7TKK.png"/>
          <p:cNvPicPr/>
          <p:nvPr/>
        </p:nvPicPr>
        <p:blipFill>
          <a:blip r:embed="rId3"/>
          <a:stretch/>
        </p:blipFill>
        <p:spPr>
          <a:xfrm>
            <a:off x="1187280" y="4149720"/>
            <a:ext cx="2140200" cy="1346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Administrator\AppData\Roaming\Tencent\Users\781547643\QQ\WinTemp\RichOle\`JC`T$55%WVD{NPQDC9)4(S.png"/>
          <p:cNvPicPr/>
          <p:nvPr/>
        </p:nvPicPr>
        <p:blipFill>
          <a:blip r:embed="rId4"/>
          <a:stretch/>
        </p:blipFill>
        <p:spPr>
          <a:xfrm>
            <a:off x="5435640" y="4076640"/>
            <a:ext cx="2247840" cy="1554120"/>
          </a:xfrm>
          <a:prstGeom prst="rect">
            <a:avLst/>
          </a:prstGeom>
          <a:ln w="0">
            <a:noFill/>
          </a:ln>
        </p:spPr>
      </p:pic>
      <p:sp>
        <p:nvSpPr>
          <p:cNvPr id="147" name="矩形 16"/>
          <p:cNvSpPr/>
          <p:nvPr/>
        </p:nvSpPr>
        <p:spPr>
          <a:xfrm>
            <a:off x="684360" y="3645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北京奥运会开幕式上，参加击缶表演的有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零八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539640" y="55897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界最高峰是珠穆朗玛峰，海拔约为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八百四十四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4427640" y="558972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国制造的神舟飞船每秒飞行</a:t>
            </a:r>
            <a:r>
              <a:rPr b="0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千九百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80000" y="1628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826920" y="1700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零八写作：（   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826920" y="2276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八百四十四写作：（  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684360" y="285264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千九百写作：（     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16360" y="2276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708360" y="2924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9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84360" y="4581360"/>
            <a:ext cx="7704000" cy="520560"/>
          </a:xfrm>
          <a:prstGeom prst="rect">
            <a:avLst/>
          </a:prstGeom>
          <a:solidFill>
            <a:srgbClr val="7030a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数时要从（    ）位 起，按照数位顺序写，哪一位上是几，就在那一位上写（     ），哪一位上一个计数单位也没有，就写（    ）来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5003640" y="3716280"/>
            <a:ext cx="2376720" cy="576360"/>
          </a:xfrm>
          <a:prstGeom prst="wedgeRoundRectCallout">
            <a:avLst>
              <a:gd name="adj1" fmla="val -29717"/>
              <a:gd name="adj2" fmla="val 92875"/>
              <a:gd name="adj3" fmla="val 16667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数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3059280" y="45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6227640" y="508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6516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96000" y="126828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66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900000" y="1700280"/>
            <a:ext cx="5688000" cy="581400"/>
          </a:xfrm>
          <a:prstGeom prst="rect">
            <a:avLst/>
          </a:prstGeom>
          <a:solidFill>
            <a:srgbClr val="b7dee8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一说，你还知道哪些大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42920" y="5661000"/>
            <a:ext cx="6913800" cy="581400"/>
          </a:xfrm>
          <a:prstGeom prst="rect">
            <a:avLst/>
          </a:prstGeom>
          <a:solidFill>
            <a:srgbClr val="7030a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中还有哪些事物可以用数表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411280" y="3645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27"/>
          <p:cNvSpPr/>
          <p:nvPr/>
        </p:nvSpPr>
        <p:spPr>
          <a:xfrm>
            <a:off x="2627280" y="2565360"/>
            <a:ext cx="2160720" cy="863640"/>
          </a:xfrm>
          <a:prstGeom prst="wedgeRoundRectCallout">
            <a:avLst>
              <a:gd name="adj1" fmla="val -18814"/>
              <a:gd name="adj2" fmla="val 113717"/>
              <a:gd name="adj3" fmla="val 16667"/>
            </a:avLst>
          </a:prstGeom>
          <a:solidFill>
            <a:srgbClr val="ffff00">
              <a:alpha val="57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的字典有七百多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219640" y="3716280"/>
            <a:ext cx="2592360" cy="865080"/>
          </a:xfrm>
          <a:prstGeom prst="wedgeRoundRectCallout">
            <a:avLst>
              <a:gd name="adj1" fmla="val -62856"/>
              <a:gd name="adj2" fmla="val 35152"/>
              <a:gd name="adj3" fmla="val 16667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的词典有一千七百多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+4Y.eps" descr="id:2147499030;FounderCES"/>
          <p:cNvPicPr/>
          <p:nvPr/>
        </p:nvPicPr>
        <p:blipFill>
          <a:blip r:embed="rId1"/>
          <a:srcRect l="0" t="0" r="77741" b="0"/>
          <a:stretch/>
        </p:blipFill>
        <p:spPr>
          <a:xfrm>
            <a:off x="4638600" y="2646360"/>
            <a:ext cx="2708280" cy="242244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9"/>
          <p:cNvGrpSpPr/>
          <p:nvPr/>
        </p:nvGrpSpPr>
        <p:grpSpPr>
          <a:xfrm>
            <a:off x="4140360" y="692280"/>
            <a:ext cx="4601880" cy="2257200"/>
            <a:chOff x="4140360" y="692280"/>
            <a:chExt cx="4601880" cy="2257200"/>
          </a:xfrm>
        </p:grpSpPr>
        <p:sp>
          <p:nvSpPr>
            <p:cNvPr id="179" name="AutoShape 32"/>
            <p:cNvSpPr/>
            <p:nvPr/>
          </p:nvSpPr>
          <p:spPr>
            <a:xfrm>
              <a:off x="4140360" y="998640"/>
              <a:ext cx="3206880" cy="1049040"/>
            </a:xfrm>
            <a:prstGeom prst="wedgeRoundRectCallout">
              <a:avLst>
                <a:gd name="adj1" fmla="val 58597"/>
                <a:gd name="adj2" fmla="val 196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层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行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列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×10=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347240" y="692280"/>
              <a:ext cx="1395000" cy="22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52"/>
          <p:cNvGrpSpPr/>
          <p:nvPr/>
        </p:nvGrpSpPr>
        <p:grpSpPr>
          <a:xfrm>
            <a:off x="703440" y="2865600"/>
            <a:ext cx="3528360" cy="3038400"/>
            <a:chOff x="703440" y="2865600"/>
            <a:chExt cx="3528360" cy="3038400"/>
          </a:xfrm>
        </p:grpSpPr>
        <p:sp>
          <p:nvSpPr>
            <p:cNvPr id="182" name="AutoShape 31"/>
            <p:cNvSpPr/>
            <p:nvPr/>
          </p:nvSpPr>
          <p:spPr>
            <a:xfrm>
              <a:off x="1460160" y="2865600"/>
              <a:ext cx="2771640" cy="1522800"/>
            </a:xfrm>
            <a:prstGeom prst="wedgeRoundRectCallout">
              <a:avLst>
                <a:gd name="adj1" fmla="val -38884"/>
                <a:gd name="adj2" fmla="val 454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层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×100=10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3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703440" y="411192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54"/>
          <p:cNvGrpSpPr/>
          <p:nvPr/>
        </p:nvGrpSpPr>
        <p:grpSpPr>
          <a:xfrm>
            <a:off x="4761000" y="581040"/>
            <a:ext cx="4279680" cy="1957320"/>
            <a:chOff x="4761000" y="581040"/>
            <a:chExt cx="4279680" cy="1957320"/>
          </a:xfrm>
        </p:grpSpPr>
        <p:sp>
          <p:nvSpPr>
            <p:cNvPr id="188" name="AutoShape 34"/>
            <p:cNvSpPr/>
            <p:nvPr/>
          </p:nvSpPr>
          <p:spPr>
            <a:xfrm>
              <a:off x="4761000" y="804960"/>
              <a:ext cx="2970000" cy="575280"/>
            </a:xfrm>
            <a:prstGeom prst="wedgeRoundRectCallout">
              <a:avLst>
                <a:gd name="adj1" fmla="val 59476"/>
                <a:gd name="adj2" fmla="val -3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万个小正方体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Picture 42" descr="13"/>
            <p:cNvPicPr/>
            <p:nvPr/>
          </p:nvPicPr>
          <p:blipFill>
            <a:blip r:embed="rId1"/>
            <a:stretch/>
          </p:blipFill>
          <p:spPr>
            <a:xfrm>
              <a:off x="7754760" y="58104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45"/>
          <p:cNvGrpSpPr/>
          <p:nvPr/>
        </p:nvGrpSpPr>
        <p:grpSpPr>
          <a:xfrm>
            <a:off x="176040" y="4334040"/>
            <a:ext cx="4064040" cy="1731960"/>
            <a:chOff x="176040" y="4334040"/>
            <a:chExt cx="4064040" cy="1731960"/>
          </a:xfrm>
        </p:grpSpPr>
        <p:sp>
          <p:nvSpPr>
            <p:cNvPr id="191" name="AutoShape 38"/>
            <p:cNvSpPr/>
            <p:nvPr/>
          </p:nvSpPr>
          <p:spPr>
            <a:xfrm>
              <a:off x="1752480" y="4334040"/>
              <a:ext cx="2487600" cy="654120"/>
            </a:xfrm>
            <a:prstGeom prst="wedgeRoundRectCallout">
              <a:avLst>
                <a:gd name="adj1" fmla="val -64236"/>
                <a:gd name="adj2" fmla="val -8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一千一千的数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2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176040" y="444348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+4Y.eps" descr="id:2147499030;FounderCES"/>
          <p:cNvPicPr/>
          <p:nvPr/>
        </p:nvPicPr>
        <p:blipFill>
          <a:blip r:embed="rId3"/>
          <a:srcRect l="0" t="0" r="77741" b="0"/>
          <a:stretch/>
        </p:blipFill>
        <p:spPr>
          <a:xfrm>
            <a:off x="946080" y="162864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4" name="+4Y.eps" descr="id:2147499030;FounderCES"/>
          <p:cNvPicPr/>
          <p:nvPr/>
        </p:nvPicPr>
        <p:blipFill>
          <a:blip r:embed="rId4"/>
          <a:srcRect l="0" t="0" r="77741" b="0"/>
          <a:stretch/>
        </p:blipFill>
        <p:spPr>
          <a:xfrm>
            <a:off x="2092320" y="1628640"/>
            <a:ext cx="1112760" cy="1063800"/>
          </a:xfrm>
          <a:prstGeom prst="rect">
            <a:avLst/>
          </a:prstGeom>
          <a:ln w="0">
            <a:noFill/>
          </a:ln>
        </p:spPr>
      </p:pic>
      <p:pic>
        <p:nvPicPr>
          <p:cNvPr id="195" name="+4Y.eps" descr="id:2147499030;FounderCES"/>
          <p:cNvPicPr/>
          <p:nvPr/>
        </p:nvPicPr>
        <p:blipFill>
          <a:blip r:embed="rId5"/>
          <a:srcRect l="0" t="0" r="77741" b="0"/>
          <a:stretch/>
        </p:blipFill>
        <p:spPr>
          <a:xfrm>
            <a:off x="3205080" y="162864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6" name="+4Y.eps" descr="id:2147499030;FounderCES"/>
          <p:cNvPicPr/>
          <p:nvPr/>
        </p:nvPicPr>
        <p:blipFill>
          <a:blip r:embed="rId6"/>
          <a:srcRect l="0" t="0" r="77741" b="0"/>
          <a:stretch/>
        </p:blipFill>
        <p:spPr>
          <a:xfrm>
            <a:off x="4572000" y="1560600"/>
            <a:ext cx="1112760" cy="1063440"/>
          </a:xfrm>
          <a:prstGeom prst="rect">
            <a:avLst/>
          </a:prstGeom>
          <a:ln w="0">
            <a:noFill/>
          </a:ln>
        </p:spPr>
      </p:pic>
      <p:pic>
        <p:nvPicPr>
          <p:cNvPr id="197" name="+4Y.eps" descr="id:2147499030;FounderCES"/>
          <p:cNvPicPr/>
          <p:nvPr/>
        </p:nvPicPr>
        <p:blipFill>
          <a:blip r:embed="rId7"/>
          <a:srcRect l="0" t="0" r="77741" b="0"/>
          <a:stretch/>
        </p:blipFill>
        <p:spPr>
          <a:xfrm>
            <a:off x="5894280" y="1560600"/>
            <a:ext cx="1114560" cy="1063440"/>
          </a:xfrm>
          <a:prstGeom prst="rect">
            <a:avLst/>
          </a:prstGeom>
          <a:ln w="0">
            <a:noFill/>
          </a:ln>
        </p:spPr>
      </p:pic>
      <p:pic>
        <p:nvPicPr>
          <p:cNvPr id="198" name="+4Y.eps" descr="id:2147499030;FounderCES"/>
          <p:cNvPicPr/>
          <p:nvPr/>
        </p:nvPicPr>
        <p:blipFill>
          <a:blip r:embed="rId8"/>
          <a:srcRect l="0" t="0" r="77741" b="0"/>
          <a:stretch/>
        </p:blipFill>
        <p:spPr>
          <a:xfrm>
            <a:off x="914400" y="2957400"/>
            <a:ext cx="1114560" cy="1063800"/>
          </a:xfrm>
          <a:prstGeom prst="rect">
            <a:avLst/>
          </a:prstGeom>
          <a:ln w="0">
            <a:noFill/>
          </a:ln>
        </p:spPr>
      </p:pic>
      <p:pic>
        <p:nvPicPr>
          <p:cNvPr id="199" name="+4Y.eps" descr="id:2147499030;FounderCES"/>
          <p:cNvPicPr/>
          <p:nvPr/>
        </p:nvPicPr>
        <p:blipFill>
          <a:blip r:embed="rId9"/>
          <a:srcRect l="0" t="0" r="77741" b="0"/>
          <a:stretch/>
        </p:blipFill>
        <p:spPr>
          <a:xfrm>
            <a:off x="2095560" y="2957400"/>
            <a:ext cx="1112760" cy="1063800"/>
          </a:xfrm>
          <a:prstGeom prst="rect">
            <a:avLst/>
          </a:prstGeom>
          <a:ln w="0">
            <a:noFill/>
          </a:ln>
        </p:spPr>
      </p:pic>
      <p:pic>
        <p:nvPicPr>
          <p:cNvPr id="200" name="+4Y.eps" descr="id:2147499030;FounderCES"/>
          <p:cNvPicPr/>
          <p:nvPr/>
        </p:nvPicPr>
        <p:blipFill>
          <a:blip r:embed="rId10"/>
          <a:srcRect l="0" t="0" r="77741" b="0"/>
          <a:stretch/>
        </p:blipFill>
        <p:spPr>
          <a:xfrm>
            <a:off x="3381480" y="2957400"/>
            <a:ext cx="1114200" cy="1063800"/>
          </a:xfrm>
          <a:prstGeom prst="rect">
            <a:avLst/>
          </a:prstGeom>
          <a:ln w="0">
            <a:noFill/>
          </a:ln>
        </p:spPr>
      </p:pic>
      <p:pic>
        <p:nvPicPr>
          <p:cNvPr id="201" name="+4Y.eps" descr="id:2147499030;FounderCES"/>
          <p:cNvPicPr/>
          <p:nvPr/>
        </p:nvPicPr>
        <p:blipFill>
          <a:blip r:embed="rId11"/>
          <a:srcRect l="0" t="0" r="77741" b="0"/>
          <a:stretch/>
        </p:blipFill>
        <p:spPr>
          <a:xfrm>
            <a:off x="4761000" y="2957400"/>
            <a:ext cx="1114200" cy="1063800"/>
          </a:xfrm>
          <a:prstGeom prst="rect">
            <a:avLst/>
          </a:prstGeom>
          <a:ln w="0">
            <a:noFill/>
          </a:ln>
        </p:spPr>
      </p:pic>
      <p:pic>
        <p:nvPicPr>
          <p:cNvPr id="202" name="+4Y.eps" descr="id:2147499030;FounderCES"/>
          <p:cNvPicPr/>
          <p:nvPr/>
        </p:nvPicPr>
        <p:blipFill>
          <a:blip r:embed="rId12"/>
          <a:srcRect l="0" t="0" r="77741" b="0"/>
          <a:stretch/>
        </p:blipFill>
        <p:spPr>
          <a:xfrm>
            <a:off x="5925960" y="2957400"/>
            <a:ext cx="1114560" cy="1063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7"/>
          <p:cNvSpPr/>
          <p:nvPr/>
        </p:nvSpPr>
        <p:spPr>
          <a:xfrm>
            <a:off x="3413160" y="5589720"/>
            <a:ext cx="3701880" cy="6426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千是一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0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同侧圆角矩形 1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同侧圆角矩形 1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190600" y="255600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万写作：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5"/>
          <p:cNvGrpSpPr/>
          <p:nvPr/>
        </p:nvGrpSpPr>
        <p:grpSpPr>
          <a:xfrm>
            <a:off x="3348000" y="1079640"/>
            <a:ext cx="5211720" cy="2257200"/>
            <a:chOff x="3348000" y="1079640"/>
            <a:chExt cx="5211720" cy="2257200"/>
          </a:xfrm>
        </p:grpSpPr>
        <p:sp>
          <p:nvSpPr>
            <p:cNvPr id="210" name="AutoShape 32"/>
            <p:cNvSpPr/>
            <p:nvPr/>
          </p:nvSpPr>
          <p:spPr>
            <a:xfrm>
              <a:off x="3348000" y="1227240"/>
              <a:ext cx="3984840" cy="654120"/>
            </a:xfrm>
            <a:prstGeom prst="wedgeRoundRectCallout">
              <a:avLst>
                <a:gd name="adj1" fmla="val 58597"/>
                <a:gd name="adj2" fmla="val 1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一个五位数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51" descr="20"/>
            <p:cNvPicPr/>
            <p:nvPr/>
          </p:nvPicPr>
          <p:blipFill>
            <a:blip r:embed="rId1"/>
            <a:srcRect l="17493" t="0" r="17928" b="12227"/>
            <a:stretch/>
          </p:blipFill>
          <p:spPr>
            <a:xfrm>
              <a:off x="7164360" y="1079640"/>
              <a:ext cx="1395360" cy="22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45"/>
          <p:cNvGrpSpPr/>
          <p:nvPr/>
        </p:nvGrpSpPr>
        <p:grpSpPr>
          <a:xfrm>
            <a:off x="882720" y="3567240"/>
            <a:ext cx="5700600" cy="2059920"/>
            <a:chOff x="882720" y="3567240"/>
            <a:chExt cx="5700600" cy="2059920"/>
          </a:xfrm>
        </p:grpSpPr>
        <p:sp>
          <p:nvSpPr>
            <p:cNvPr id="213" name="AutoShape 38"/>
            <p:cNvSpPr/>
            <p:nvPr/>
          </p:nvSpPr>
          <p:spPr>
            <a:xfrm>
              <a:off x="2540160" y="3567240"/>
              <a:ext cx="4043160" cy="561600"/>
            </a:xfrm>
            <a:prstGeom prst="wedgeRoundRectCallout">
              <a:avLst>
                <a:gd name="adj1" fmla="val -64240"/>
                <a:gd name="adj2" fmla="val 65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一个一个地数，从一数到一万，大约要用</a:t>
              </a:r>
              <a:r>
                <a:rPr b="0" lang="en-US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小时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4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882720" y="4005000"/>
              <a:ext cx="1655640" cy="1622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7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1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同侧圆角矩形 65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同侧圆角矩形 6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CK3.EPS" descr="id:2147499052;FounderCES"/>
          <p:cNvPicPr/>
          <p:nvPr/>
        </p:nvPicPr>
        <p:blipFill>
          <a:blip r:embed="rId1"/>
          <a:srcRect l="0" t="0" r="57188" b="0"/>
          <a:stretch/>
        </p:blipFill>
        <p:spPr>
          <a:xfrm>
            <a:off x="609480" y="4005360"/>
            <a:ext cx="3718080" cy="2060640"/>
          </a:xfrm>
          <a:prstGeom prst="rect">
            <a:avLst/>
          </a:prstGeom>
          <a:ln w="0">
            <a:noFill/>
          </a:ln>
        </p:spPr>
      </p:pic>
      <p:pic>
        <p:nvPicPr>
          <p:cNvPr id="221" name="CK3.EPS" descr="id:2147499052;FounderCES"/>
          <p:cNvPicPr/>
          <p:nvPr/>
        </p:nvPicPr>
        <p:blipFill>
          <a:blip r:embed="rId2"/>
          <a:srcRect l="70530" t="0" r="0" b="0"/>
          <a:stretch/>
        </p:blipFill>
        <p:spPr>
          <a:xfrm>
            <a:off x="2219400" y="1700280"/>
            <a:ext cx="2970000" cy="1941480"/>
          </a:xfrm>
          <a:prstGeom prst="rect">
            <a:avLst/>
          </a:prstGeom>
          <a:ln w="0">
            <a:noFill/>
          </a:ln>
        </p:spPr>
      </p:pic>
      <p:pic>
        <p:nvPicPr>
          <p:cNvPr id="222" name="CK3.EPS" descr="id:2147499052;FounderCES"/>
          <p:cNvPicPr/>
          <p:nvPr/>
        </p:nvPicPr>
        <p:blipFill>
          <a:blip r:embed="rId3"/>
          <a:srcRect l="42884" t="0" r="29477" b="0"/>
          <a:stretch/>
        </p:blipFill>
        <p:spPr>
          <a:xfrm>
            <a:off x="5724360" y="1508040"/>
            <a:ext cx="2171880" cy="2140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7"/>
          <p:cNvSpPr/>
          <p:nvPr/>
        </p:nvSpPr>
        <p:spPr>
          <a:xfrm>
            <a:off x="2573280" y="923760"/>
            <a:ext cx="32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认识一万元人民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4605480" y="4056120"/>
            <a:ext cx="4344840" cy="1957320"/>
            <a:chOff x="4605480" y="4056120"/>
            <a:chExt cx="4344840" cy="1957320"/>
          </a:xfrm>
        </p:grpSpPr>
        <p:sp>
          <p:nvSpPr>
            <p:cNvPr id="225" name="AutoShape 34"/>
            <p:cNvSpPr/>
            <p:nvPr/>
          </p:nvSpPr>
          <p:spPr>
            <a:xfrm>
              <a:off x="4605480" y="4056120"/>
              <a:ext cx="2970000" cy="1049040"/>
            </a:xfrm>
            <a:prstGeom prst="wedgeRoundRectCallout">
              <a:avLst>
                <a:gd name="adj1" fmla="val 59476"/>
                <a:gd name="adj2" fmla="val -1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250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元，所以是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个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Picture 42" descr="13"/>
            <p:cNvPicPr/>
            <p:nvPr/>
          </p:nvPicPr>
          <p:blipFill>
            <a:blip r:embed="rId4"/>
            <a:stretch/>
          </p:blipFill>
          <p:spPr>
            <a:xfrm>
              <a:off x="7664400" y="405612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7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3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同侧圆角矩形 65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同侧圆角矩形 6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7"/>
          <p:cNvSpPr/>
          <p:nvPr/>
        </p:nvSpPr>
        <p:spPr>
          <a:xfrm>
            <a:off x="1467000" y="1773360"/>
            <a:ext cx="32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认识一万元人民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" descr="C:\Users\Administrator\AppData\Roaming\Tencent\Users\781547643\QQ\WinTemp\RichOle\)JDR~TLDKX3HBE3Y@LS]_CL.png"/>
          <p:cNvPicPr/>
          <p:nvPr/>
        </p:nvPicPr>
        <p:blipFill>
          <a:blip r:embed="rId1"/>
          <a:stretch/>
        </p:blipFill>
        <p:spPr>
          <a:xfrm>
            <a:off x="701640" y="3178080"/>
            <a:ext cx="7848720" cy="22669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32"/>
          <p:cNvSpPr/>
          <p:nvPr/>
        </p:nvSpPr>
        <p:spPr>
          <a:xfrm>
            <a:off x="1293840" y="2298600"/>
            <a:ext cx="2349360" cy="654120"/>
          </a:xfrm>
          <a:prstGeom prst="wedgeRoundRectCallout">
            <a:avLst>
              <a:gd name="adj1" fmla="val -12759"/>
              <a:gd name="adj2" fmla="val 8618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1271520" y="5499000"/>
            <a:ext cx="2220840" cy="654120"/>
          </a:xfrm>
          <a:prstGeom prst="wedgeRoundRectCallout">
            <a:avLst>
              <a:gd name="adj1" fmla="val -12143"/>
              <a:gd name="adj2" fmla="val -864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32"/>
          <p:cNvSpPr/>
          <p:nvPr/>
        </p:nvSpPr>
        <p:spPr>
          <a:xfrm>
            <a:off x="5148360" y="2295360"/>
            <a:ext cx="2220840" cy="1207080"/>
          </a:xfrm>
          <a:prstGeom prst="wedgeRoundRectCallout">
            <a:avLst>
              <a:gd name="adj1" fmla="val -12143"/>
              <a:gd name="adj2" fmla="val 250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1"/>
          <p:cNvSpPr/>
          <p:nvPr/>
        </p:nvSpPr>
        <p:spPr>
          <a:xfrm>
            <a:off x="971640" y="1700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4140360" y="2421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9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3492360" y="4437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六千五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348000" y="299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七千二百四十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572000" y="364500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3348000" y="5013360"/>
            <a:ext cx="417672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末尾不管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组合 3"/>
          <p:cNvGrpSpPr/>
          <p:nvPr/>
        </p:nvGrpSpPr>
        <p:grpSpPr>
          <a:xfrm>
            <a:off x="468360" y="3381480"/>
            <a:ext cx="2916360" cy="2882880"/>
            <a:chOff x="468360" y="3381480"/>
            <a:chExt cx="2916360" cy="2882880"/>
          </a:xfrm>
        </p:grpSpPr>
        <p:sp>
          <p:nvSpPr>
            <p:cNvPr id="248" name="Text Box 18"/>
            <p:cNvSpPr/>
            <p:nvPr/>
          </p:nvSpPr>
          <p:spPr>
            <a:xfrm>
              <a:off x="1260360" y="3428640"/>
              <a:ext cx="20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读数时要从高位读起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组合 2"/>
            <p:cNvGrpSpPr/>
            <p:nvPr/>
          </p:nvGrpSpPr>
          <p:grpSpPr>
            <a:xfrm>
              <a:off x="468360" y="3381480"/>
              <a:ext cx="2916360" cy="2882880"/>
              <a:chOff x="468360" y="3381480"/>
              <a:chExt cx="2916360" cy="2882880"/>
            </a:xfrm>
          </p:grpSpPr>
          <p:pic>
            <p:nvPicPr>
              <p:cNvPr id="250" name="Picture 20" descr="93副本"/>
              <p:cNvPicPr/>
              <p:nvPr/>
            </p:nvPicPr>
            <p:blipFill>
              <a:blip r:embed="rId2"/>
              <a:stretch/>
            </p:blipFill>
            <p:spPr>
              <a:xfrm>
                <a:off x="468360" y="4330080"/>
                <a:ext cx="1191240" cy="193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圆角矩形标注 29"/>
              <p:cNvSpPr/>
              <p:nvPr/>
            </p:nvSpPr>
            <p:spPr>
              <a:xfrm>
                <a:off x="1152360" y="3381480"/>
                <a:ext cx="2232360" cy="1008360"/>
              </a:xfrm>
              <a:prstGeom prst="wedgeRoundRectCallout">
                <a:avLst>
                  <a:gd name="adj1" fmla="val -43175"/>
                  <a:gd name="adj2" fmla="val 86550"/>
                  <a:gd name="adj3" fmla="val 16667"/>
                </a:avLst>
              </a:prstGeom>
              <a:solidFill>
                <a:srgbClr val="4f81bd">
                  <a:alpha val="30000"/>
                </a:srgbClr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684360" y="3573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认识万以内数和一万的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684360" y="184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认、读、写万以内的数和一万，知道万以内数的组成，初步学会用万以内的数表示生活中的事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00200" y="4299120"/>
            <a:ext cx="72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千是一万，感受大数在日常生活中的应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6" name="Text Box 8"/>
          <p:cNvSpPr/>
          <p:nvPr/>
        </p:nvSpPr>
        <p:spPr>
          <a:xfrm>
            <a:off x="1835280" y="2421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692360" y="3789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8"/>
          <p:cNvSpPr/>
          <p:nvPr/>
        </p:nvSpPr>
        <p:spPr>
          <a:xfrm>
            <a:off x="1403280" y="3068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九千零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9"/>
          <p:cNvSpPr/>
          <p:nvPr/>
        </p:nvSpPr>
        <p:spPr>
          <a:xfrm>
            <a:off x="1403280" y="4365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五千零四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0"/>
          <p:cNvSpPr/>
          <p:nvPr/>
        </p:nvSpPr>
        <p:spPr>
          <a:xfrm>
            <a:off x="4788000" y="2637000"/>
            <a:ext cx="360036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中间有连续的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一个“零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1"/>
          <p:cNvSpPr/>
          <p:nvPr/>
        </p:nvSpPr>
        <p:spPr>
          <a:xfrm>
            <a:off x="4788000" y="4365720"/>
            <a:ext cx="3671640" cy="5205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中间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读出来，末尾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971640" y="170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各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对象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0" name="Text Box 8"/>
          <p:cNvSpPr/>
          <p:nvPr/>
        </p:nvSpPr>
        <p:spPr>
          <a:xfrm>
            <a:off x="1835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1403280" y="3068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26920" y="5013360"/>
            <a:ext cx="8137800" cy="642600"/>
          </a:xfrm>
          <a:prstGeom prst="rect">
            <a:avLst/>
          </a:prstGeom>
          <a:solidFill>
            <a:srgbClr val="00b0f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或末尾哪一位上一个数也没有，就在那一位上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292720" y="364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四千五百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5148360" y="43657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76360" y="36450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七千零三十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1"/>
          <p:cNvSpPr/>
          <p:nvPr/>
        </p:nvSpPr>
        <p:spPr>
          <a:xfrm>
            <a:off x="1403280" y="429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427640" y="24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千七百二十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5076720" y="3141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作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7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81" name="矩形 10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"/>
          <p:cNvSpPr/>
          <p:nvPr/>
        </p:nvSpPr>
        <p:spPr>
          <a:xfrm rot="18297600">
            <a:off x="6168960" y="4049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6" name="矩形 25"/>
          <p:cNvSpPr/>
          <p:nvPr/>
        </p:nvSpPr>
        <p:spPr>
          <a:xfrm>
            <a:off x="2268360" y="26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7"/>
          <p:cNvSpPr/>
          <p:nvPr/>
        </p:nvSpPr>
        <p:spPr>
          <a:xfrm>
            <a:off x="2195640" y="36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5651640" y="80028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4"/>
          <p:cNvSpPr/>
          <p:nvPr/>
        </p:nvSpPr>
        <p:spPr>
          <a:xfrm>
            <a:off x="826920" y="4797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中间或末尾哪一位上一个数也没有，就在那一位上写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96" name="矩形 19"/>
          <p:cNvSpPr/>
          <p:nvPr/>
        </p:nvSpPr>
        <p:spPr>
          <a:xfrm>
            <a:off x="971640" y="2997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的百位和十位上一个数也没有，应该写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占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30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 rot="18297600">
            <a:off x="6204960" y="4629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4" name="矩形 20"/>
          <p:cNvSpPr/>
          <p:nvPr/>
        </p:nvSpPr>
        <p:spPr>
          <a:xfrm rot="18297600">
            <a:off x="2697120" y="465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6" name="矩形 25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6"/>
          <p:cNvSpPr/>
          <p:nvPr/>
        </p:nvSpPr>
        <p:spPr>
          <a:xfrm>
            <a:off x="457200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7"/>
          <p:cNvSpPr/>
          <p:nvPr/>
        </p:nvSpPr>
        <p:spPr>
          <a:xfrm>
            <a:off x="1476360" y="3933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4572000" y="3933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154764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千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7"/>
          <p:cNvSpPr/>
          <p:nvPr/>
        </p:nvSpPr>
        <p:spPr>
          <a:xfrm>
            <a:off x="468360" y="1628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684360" y="242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二千八百五十九是由（      ）个千，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      )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百、（      ）个十和（       ）个一组成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611280" y="4437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（     ）个千、（    ）个百、（    ）个十合起来是四千五百二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644364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6516720" y="24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8432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2"/>
          <p:cNvSpPr/>
          <p:nvPr/>
        </p:nvSpPr>
        <p:spPr>
          <a:xfrm>
            <a:off x="5796000" y="450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3"/>
          <p:cNvSpPr/>
          <p:nvPr/>
        </p:nvSpPr>
        <p:spPr>
          <a:xfrm>
            <a:off x="2411280" y="450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4"/>
          <p:cNvSpPr/>
          <p:nvPr/>
        </p:nvSpPr>
        <p:spPr>
          <a:xfrm>
            <a:off x="2843280" y="36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1332000" y="5229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2"/>
          <p:cNvSpPr/>
          <p:nvPr/>
        </p:nvSpPr>
        <p:spPr>
          <a:xfrm>
            <a:off x="468360" y="1763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" descr="蜂鸟"/>
          <p:cNvPicPr/>
          <p:nvPr/>
        </p:nvPicPr>
        <p:blipFill>
          <a:blip r:embed="rId1"/>
          <a:stretch/>
        </p:blipFill>
        <p:spPr>
          <a:xfrm>
            <a:off x="1116000" y="2421000"/>
            <a:ext cx="2371680" cy="171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PL0214"/>
          <p:cNvPicPr/>
          <p:nvPr/>
        </p:nvPicPr>
        <p:blipFill>
          <a:blip r:embed="rId2"/>
          <a:stretch/>
        </p:blipFill>
        <p:spPr>
          <a:xfrm>
            <a:off x="5724360" y="2421000"/>
            <a:ext cx="2033640" cy="16524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900000" y="414972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已发现的鸟类约有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86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03640" y="4076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国的观赏花卉约有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238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971640" y="5300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千一百              八十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5219640" y="522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二千二百三十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F:\七彩课堂插图板式封面\排版用图标、页眉页脚\标题图（终-排版用）共29个\预习指导.jpg"/>
          <p:cNvPicPr/>
          <p:nvPr/>
        </p:nvPicPr>
        <p:blipFill>
          <a:blip r:embed="rId3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755640" y="263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的意义相同。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755640" y="4437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在数位顺序表中，从右起，第五位是万位。（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4"/>
          <p:cNvSpPr/>
          <p:nvPr/>
        </p:nvSpPr>
        <p:spPr>
          <a:xfrm>
            <a:off x="755640" y="371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二千零零七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1872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51672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7003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要求写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55640" y="2637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一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一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两个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组成四位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5"/>
          <p:cNvSpPr/>
          <p:nvPr/>
        </p:nvSpPr>
        <p:spPr>
          <a:xfrm>
            <a:off x="1979640" y="4005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539640" y="342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个零也不读的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61128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只读出一个零的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8"/>
          <p:cNvSpPr/>
          <p:nvPr/>
        </p:nvSpPr>
        <p:spPr>
          <a:xfrm>
            <a:off x="3708360" y="40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6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205092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20"/>
          <p:cNvSpPr/>
          <p:nvPr/>
        </p:nvSpPr>
        <p:spPr>
          <a:xfrm>
            <a:off x="363528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1"/>
          <p:cNvSpPr/>
          <p:nvPr/>
        </p:nvSpPr>
        <p:spPr>
          <a:xfrm>
            <a:off x="5003640" y="522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6300720" y="5229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6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7"/>
          <p:cNvSpPr/>
          <p:nvPr/>
        </p:nvSpPr>
        <p:spPr>
          <a:xfrm>
            <a:off x="539640" y="17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二张卡片按要求拼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1332000" y="36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读一个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5"/>
          <p:cNvSpPr/>
          <p:nvPr/>
        </p:nvSpPr>
        <p:spPr>
          <a:xfrm>
            <a:off x="4140360" y="2492280"/>
            <a:ext cx="93636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3"/>
          <p:cNvSpPr/>
          <p:nvPr/>
        </p:nvSpPr>
        <p:spPr>
          <a:xfrm>
            <a:off x="1403280" y="4508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零也不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3995640" y="36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4356000" y="4508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2771640" y="2492280"/>
            <a:ext cx="93672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798480"/>
            <a:ext cx="2376360" cy="1660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116000" y="1681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23274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数位顺序表中，从右边起，第一位是（    ）位，第二位是（    ）位，第三位是（    ）位，第四位是（    ）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7451640" y="21398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843280" y="31417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255840" y="27050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875640" y="2781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4032360" y="43149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4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826920" y="4381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九百四十二写作（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26920" y="4903920"/>
            <a:ext cx="7345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是（       ）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百是（          ）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2808360" y="50148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37926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4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2801880" y="373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百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763640" y="551664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468360" y="5184000"/>
            <a:ext cx="8280360" cy="60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写数时，要从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位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起，按照数位顺序写，哪一位上是几，就在那一位上写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，哪一位上一个计数单位也没有，就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来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76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大家想一想，怎样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读、写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379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6012000" y="1465200"/>
              <a:ext cx="2593080" cy="82548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个一千是一万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一万写作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000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8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矩形 21"/>
          <p:cNvSpPr/>
          <p:nvPr/>
        </p:nvSpPr>
        <p:spPr>
          <a:xfrm>
            <a:off x="468360" y="3284640"/>
            <a:ext cx="828036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时，从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位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，千位上是几就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千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百位上是几就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有一个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两 个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零”，末尾不管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读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39640" y="1727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列电器的价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Administrator\AppData\Roaming\Tencent\Users\781547643\QQ\WinTemp\RichOle\CVM}9IU}(7}92%]K7GWE9A4.png"/>
          <p:cNvPicPr/>
          <p:nvPr/>
        </p:nvPicPr>
        <p:blipFill>
          <a:blip r:embed="rId1"/>
          <a:stretch/>
        </p:blipFill>
        <p:spPr>
          <a:xfrm>
            <a:off x="1547640" y="2421000"/>
            <a:ext cx="2262240" cy="107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Administrator\AppData\Roaming\Tencent\Users\781547643\QQ\WinTemp\RichOle\%NK60NXYQ92D%UGTTJ[$(2Q.png"/>
          <p:cNvPicPr/>
          <p:nvPr/>
        </p:nvPicPr>
        <p:blipFill>
          <a:blip r:embed="rId2"/>
          <a:stretch/>
        </p:blipFill>
        <p:spPr>
          <a:xfrm>
            <a:off x="1692360" y="4292640"/>
            <a:ext cx="1996920" cy="1279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Administrator\AppData\Roaming\Tencent\Users\781547643\QQ\WinTemp\RichOle\LU_4G(L0Y[IFYB}K_0HV8{X.png"/>
          <p:cNvPicPr/>
          <p:nvPr/>
        </p:nvPicPr>
        <p:blipFill>
          <a:blip r:embed="rId3"/>
          <a:stretch/>
        </p:blipFill>
        <p:spPr>
          <a:xfrm>
            <a:off x="4500720" y="2781360"/>
            <a:ext cx="1346040" cy="16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Administrator\AppData\Roaming\Tencent\Users\781547643\QQ\WinTemp\RichOle\K5Z8`%)]I19{9VX)GS2D`2V.png"/>
          <p:cNvPicPr/>
          <p:nvPr/>
        </p:nvPicPr>
        <p:blipFill>
          <a:blip r:embed="rId4"/>
          <a:stretch/>
        </p:blipFill>
        <p:spPr>
          <a:xfrm>
            <a:off x="6659640" y="2852640"/>
            <a:ext cx="108252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4"/>
          <p:cNvSpPr/>
          <p:nvPr/>
        </p:nvSpPr>
        <p:spPr>
          <a:xfrm>
            <a:off x="1979640" y="3645000"/>
            <a:ext cx="129708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4500720" y="4581360"/>
            <a:ext cx="136656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2050920" y="5661000"/>
            <a:ext cx="144144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4"/>
          <p:cNvSpPr/>
          <p:nvPr/>
        </p:nvSpPr>
        <p:spPr>
          <a:xfrm>
            <a:off x="6588000" y="5229360"/>
            <a:ext cx="1440000" cy="5205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300720" y="3645000"/>
            <a:ext cx="2519280" cy="1579320"/>
          </a:xfrm>
          <a:prstGeom prst="rect">
            <a:avLst/>
          </a:prstGeom>
          <a:ln w="0">
            <a:noFill/>
          </a:ln>
        </p:spPr>
      </p:pic>
      <p:sp>
        <p:nvSpPr>
          <p:cNvPr id="8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00000" y="1916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空调的价钱是二千一百六十五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1640" y="2708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洗衣机的价钱是四千零八十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71640" y="3429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箱的价钱是三千二百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00000" y="4149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华文新魏"/>
                <a:ea typeface="华文新魏"/>
              </a:rPr>
              <a:t>电视机的价钱是八千零八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00000" y="5300640"/>
            <a:ext cx="7128000" cy="642600"/>
          </a:xfrm>
          <a:prstGeom prst="rect">
            <a:avLst/>
          </a:prstGeom>
          <a:solidFill>
            <a:srgbClr val="8eb4e3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些电器的价钱都在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以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9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84360" y="1700280"/>
            <a:ext cx="6480000" cy="1069200"/>
          </a:xfrm>
          <a:prstGeom prst="rect">
            <a:avLst/>
          </a:prstGeom>
          <a:solidFill>
            <a:srgbClr val="00b05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：每种电器的价钱中有几个一千元、几个一百元、几个十元和几个一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684360" y="3213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空调的价钱中有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千元、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百元、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十元和</a:t>
            </a:r>
            <a:r>
              <a:rPr b="0" lang="en-US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个一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71640" y="41497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洗衣机的价钱中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十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71640" y="4724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冰箱的价钱中有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个一百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71640" y="5300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视机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价钱中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一千元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一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300720" y="83664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4"/>
          <p:cNvSpPr/>
          <p:nvPr/>
        </p:nvSpPr>
        <p:spPr>
          <a:xfrm>
            <a:off x="539640" y="1978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上面的数写在数位顺序表中并读一读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3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63640" y="3213000"/>
          <a:ext cx="5411880" cy="2743200"/>
        </p:xfrm>
        <a:graphic>
          <a:graphicData uri="http://schemas.openxmlformats.org/drawingml/2006/table">
            <a:tbl>
              <a:tblPr/>
              <a:tblGrid>
                <a:gridCol w="1082880"/>
                <a:gridCol w="1081080"/>
                <a:gridCol w="1082520"/>
                <a:gridCol w="1082880"/>
                <a:gridCol w="10825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11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55640" y="1773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6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627280" y="17002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一百六十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55640" y="2349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611280" y="2852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）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55640" y="350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2700360" y="23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千零八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2843280" y="2997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千二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277164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千零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5148360" y="3645000"/>
            <a:ext cx="2376360" cy="576000"/>
          </a:xfrm>
          <a:prstGeom prst="wedgeRoundRectCallout">
            <a:avLst>
              <a:gd name="adj1" fmla="val -32050"/>
              <a:gd name="adj2" fmla="val 107305"/>
              <a:gd name="adj3" fmla="val 16667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数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4581360"/>
            <a:ext cx="8136000" cy="855720"/>
          </a:xfrm>
          <a:prstGeom prst="rect">
            <a:avLst/>
          </a:prstGeom>
          <a:solidFill>
            <a:srgbClr val="7030a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高位起，按照数位顺序读；千位上是几就读几千，百位上是几就读几百 ，十位上是几就读几十，个位上是几 就读几；中间有一个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 两 个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一个零 ； 末尾不管有几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不读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724360" y="90792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2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4102200"/>
            <a:ext cx="81360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位顺序表中，数位的顺序是按（                ）排列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数位顺序表中，从右起，第一位是（     ） 位，第二位是（   ）位，第三位是（   ）位，第四位是（   ）位，第五位是（   ）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2627280" y="602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4716360" y="566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176364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5"/>
          <p:cNvSpPr/>
          <p:nvPr/>
        </p:nvSpPr>
        <p:spPr>
          <a:xfrm>
            <a:off x="558000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右往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6"/>
          <p:cNvSpPr/>
          <p:nvPr/>
        </p:nvSpPr>
        <p:spPr>
          <a:xfrm>
            <a:off x="6227640" y="5229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7"/>
          <p:cNvSpPr/>
          <p:nvPr/>
        </p:nvSpPr>
        <p:spPr>
          <a:xfrm>
            <a:off x="7524720" y="566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63640" y="1773360"/>
          <a:ext cx="4546800" cy="2265120"/>
        </p:xfrm>
        <a:graphic>
          <a:graphicData uri="http://schemas.openxmlformats.org/drawingml/2006/table">
            <a:tbl>
              <a:tblPr/>
              <a:tblGrid>
                <a:gridCol w="909720"/>
                <a:gridCol w="909720"/>
                <a:gridCol w="907920"/>
                <a:gridCol w="909720"/>
                <a:gridCol w="909720"/>
              </a:tblGrid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08:02:28Z</dcterms:modified>
  <cp:revision>289</cp:revision>
  <dc:subject>www.xkb1.com</dc:subject>
  <dc:title>www.xkb1.com</dc:title>
</cp:coreProperties>
</file>